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3332-81C9-4DDE-B584-8D468E84D2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A9BF-50EB-48EB-8181-E5AE957EF2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C644-040A-4FE3-B8C7-82AF55EF9F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62C3-E14F-4236-89E2-46694A4ABBC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FD25-924F-4D23-861A-12DE3CCAD1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15ED-2D89-4F73-8C52-83A7C69269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34F5-C007-4C5B-8231-9F4A5AFD011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CE68-E599-414E-8158-9ACF9D0A58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F1CB-8436-4923-AC6D-BE28FE6E15A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FA5D-50A5-4868-A129-721EBCBDA44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6CFE-8F8D-421E-B4D0-AC20F6D525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4C08-08FE-4153-965F-8373451A17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5D21-6DD5-4724-894F-8C90CDA4ADE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FEA3-BBBC-4496-A418-F1FDA71803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90D0-83F6-4FFB-A812-906165A20E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7F14-18F1-44EB-A9AF-D6549EBA97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0873-2605-45C5-91D9-62E01F10AD7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9053-B1E0-4EE9-A093-ED7152CF4C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A893-BF13-4833-90D6-A890C832F2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7CA9-F403-4214-BDAA-E5F04B1BCC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CDC1-FF61-43AA-A82D-1190740FE5E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3B47-A4B6-4D60-83F9-39D197ABE7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0B71-9304-4DD1-97AD-C6EB32692E9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8474-0009-4A3B-83CF-58D7ED2735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2A74-049F-4A19-9885-C85000AA4C0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2C29-62E4-4726-9411-A51BFFBE58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F60C-9125-4E78-936F-FFAE37C76B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6345-22CA-471C-A560-4CACF62EB2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39A7-C765-4B0C-9865-DD3C0471D4A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545E-E528-4CD1-9431-D94FE4C4178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8ABB-CBAE-4E2F-B853-02657BA7B8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3DCA-5FEE-4CD1-8651-D717B64B1E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DCD3-8991-4F21-A1B3-D4C1E0CDEB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B504-7F73-4B24-ABD6-06F40906085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DF8C-F756-4209-975C-7CCF753FA4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D18E-EDB3-486B-8626-0CA9AA49F7F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B8D0-F7F9-407B-83FD-C175A765C1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70A0-8DA0-4CC1-8D72-D4728C04CC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CE17-69DC-42F9-9FE1-B0B96209E42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0EAF-3DD5-4C7F-80F6-2773D27212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5895-0995-412A-975E-CFED2F2572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E4B4-6A34-44E5-86BC-C746604CFF9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1055-59BD-428A-8032-9AD80ACFF1B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E9E-F374-4087-AEDC-96F18295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14B-43F3-4C0C-9A4D-D26914B7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6A1-B508-4F96-84D4-7167A63B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F5C-EE55-4045-BF8D-EB675CDD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919-564A-4392-AA4E-48B0CAFB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4D0-BBA6-4AD7-813D-154C4C90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19E-5C65-4F01-9009-9C326614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C6C-AA29-46F8-BFB9-DBAE2E2A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0E9-BBE4-4ED7-8D28-69E68C30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9D4-A96A-48CE-9B8F-DE908C87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1F6-6DDA-4F26-9524-552D426B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CB3-C265-4BEF-822F-318C7CDD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8FE8-FBD9-45F7-A701-4FCF2BD67313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麻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áfa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귀찮게 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调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427080"/>
            <a:ext cx="62643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500" spc="-1" strike="noStrike">
                <a:solidFill>
                  <a:srgbClr val="000000"/>
                </a:solidFill>
                <a:latin typeface="Arial"/>
              </a:rPr>
              <a:t>diàochá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조사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讨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ǎolù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토론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수리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电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iànt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엘리베이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上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àngxià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쯤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량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首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ǒu'ě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서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首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ǒud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수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已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ǐji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zh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úd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뿐만 아니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外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wài</a:t>
            </a: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와이탄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지명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发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ādá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발달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而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érqi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게다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干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ānjì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깨끗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使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ǐyò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용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交通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jiāotōngkǎ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교통카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单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dānché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편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极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í l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매우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몹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ě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매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마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充值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hōng</a:t>
            </a:r>
            <a:r>
              <a:rPr b="1" lang="ko-KR" sz="9600" spc="-1" strike="noStrike">
                <a:solidFill>
                  <a:srgbClr val="000000"/>
                </a:solidFill>
                <a:latin typeface="Arial"/>
              </a:rPr>
              <a:t>zhí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j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충전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报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0" spc="-1" strike="noStrike">
                <a:solidFill>
                  <a:srgbClr val="000000"/>
                </a:solidFill>
                <a:latin typeface="Arial"/>
              </a:rPr>
              <a:t>bàomí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신청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èl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东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ōngx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물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ǎ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생기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聪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ōngmi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총명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不好意思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bùhǎoyìs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미안합니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b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편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哈尔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Hā'ěrbī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하얼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ǎ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키가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작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ǎ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늦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i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밝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ē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검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어둡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比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ǐji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비교적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목이 마르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ǎ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부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ā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더럽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먼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南京东路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163920"/>
            <a:ext cx="62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ko-KR" sz="8000" spc="-1" strike="noStrike">
                <a:solidFill>
                  <a:srgbClr val="000000"/>
                </a:solidFill>
                <a:latin typeface="Arial"/>
              </a:rPr>
              <a:t>án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jī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dōng</a:t>
            </a:r>
            <a:r>
              <a:rPr b="1" lang="ko-KR" sz="8000" spc="-1" strike="noStrike">
                <a:solidFill>
                  <a:srgbClr val="000000"/>
                </a:solidFill>
                <a:latin typeface="Arial"/>
              </a:rPr>
              <a:t>l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먼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然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ánh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그리고 나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g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대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小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ǎosh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8:15:39Z</dcterms:created>
  <dc:creator>System</dc:creator>
  <dc:description/>
  <dc:language>en-US</dc:language>
  <cp:lastModifiedBy>System</cp:lastModifiedBy>
  <dcterms:modified xsi:type="dcterms:W3CDTF">2014-01-27T08:56:43Z</dcterms:modified>
  <cp:revision>6</cp:revision>
  <dc:subject/>
  <dc:title>슬라이드 1</dc:title>
</cp:coreProperties>
</file>